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E59A-5406-4574-9A97-9377DD8845B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8331-9311-46F7-9DE4-D512FE639AC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B980-7972-42AF-9144-B4BA9EDAFDC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976F-E5DA-48A3-87AD-BBA801C6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392D-2CD7-4192-9A7E-E42D1DDA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B21C-5442-465A-8171-C3A7559F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FC4-B863-4659-ACC5-9468A401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980A-1C66-41BE-8000-0E0950EB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29956B-F808-42CD-B5EF-EA15AAEF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10CE0A-EB86-4F35-A425-DA2335D6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4EE2B0-E5D9-4531-9D7F-2AAC98FF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38FE12-DFD9-435C-8091-043CD5A0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4107C3-F79A-4826-8064-DEC2DFFE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9D26-6D9E-4295-9923-28740A2F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6B5771-99B1-439B-B1FC-665C79BC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011A15-0721-4AA4-A536-6111791A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67B8ED-571C-41CC-9210-D61E026B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80C8E2-10AC-4055-BC89-1600F9DF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282A38-64D5-4D53-A67A-E244D7B9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1C7833-66E7-454C-872B-CEAA49F4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E36AAE-2B5D-4592-BFDA-01053D87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53D9D3-6EB9-45B5-92F8-A3386702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8D11D9-18B4-460E-818B-70AC7448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E1FE54-413A-4682-B8FB-5A1BF5F1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31AD-4355-4ABB-A5DF-8F3F7BD6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DAFB2A-F6DC-473E-B2E4-799BE524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146674-E35C-4A15-8B38-ADF3C449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97270A-8278-47BA-AE15-992C58DE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D4AB85-EDC8-41C9-B3ED-39A9EF7B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5D5D19-D9CD-44A6-883E-448C69EF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429D6B-AEF1-422F-A3EA-2308798E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00ACFD-7902-43B3-8EF7-927A3F5D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F2DB18-F13D-4D1D-AC02-5CDEEDB4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6045A1-F36C-4810-8B97-92FA43C7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D28979-DF75-4AFE-95E5-6FD7C0CB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6823-7575-4FF8-A40E-7AB18E08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21DE69-7758-4AB6-B931-A8A6B5CE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665E4A-CCE1-4998-B5F4-164972BB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1D3D12-9625-4D99-9D2E-92819F4C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F1009B-D549-4155-B557-34694A49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8A1E76-68CA-4164-AC5A-804089D4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69EE49-4857-4767-9DC3-27CC48E2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B70DC0-2362-45A2-9179-4678BFD9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2B788C-E9EC-4D8C-BE63-4BA8AAFB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377C69-ED79-4400-9E75-E409420C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60349B-9774-4789-83E2-344E035C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30E9-9799-4426-AC6B-A4F85222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EBD3B2-0231-4BEF-9D34-D67B9C8F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1F1-64BB-4DB6-AEAA-11756987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6859-7A55-47B2-A991-0CE9B136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2F7F-4E0C-40F6-B915-D5CCBCB4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BE25-26E9-4D46-B950-C376CF72ED8D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7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4373-85BB-44E5-9249-5CFD7F25834D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3E52-7AC0-4378-93CD-1910A127A81A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CF3A-E3E5-49C4-994F-13AC0A842105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isty oczekujących na świadczenia opieki zdrowotne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4" descr="nfz_logo_A_kolor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737856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sady prowadzenia list oczekujących spersonalizowanych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6858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lanowany termin udzielenia świadczenia oznaczany jest z dokładnością do dnia, jeżeli przekracza on 6 miesięcy licząc od daty wpisu na listę oczekujących dopuszczalne jest wskazanie terminu z dokładnością do tygodnia (terminem wskazanym jest pierwszy dzień tygodnia – poniedziałek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datkowe wolne terminy, które powstaną niezależnie od przyczyny należy przeznaczyć na przyspieszenie terminów realizacji świadczeń dla pacjentów czekających najdłużej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odawca wyznacza osobę odpowiedzialną za systematyczne i terminowe przekazywanie do oddziału wojewódzkiego NFZ za pośrednictwem udostępnionej aplikacji danych z zakresu list oczekujących; informację o wyznaczonej osobie wraz z adresem poczty elektronicznej i numerem telefonu, świadczeniodawca przekazuje NFZ w celu ułatwienia kontakt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rzyści personalizacji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ne rzeczywiste, a nie orientacy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zetelna i wiarygodna informacja o udzielanych świadczeniach zarówno dla pacjenta, jak i dla NF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alne skrócenie czasu oczekiwania na wykonanie świadczenia poprzez możliwość wyboru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ęki identyfikacji pacjenta – realne skrócenie list oczekujących (pacjent oczekujący do jednego, a nie kilku świadczeniodawców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szczepianie endoprotez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9 roku 291 świadczeniodawców z terenu całego kraju, dokonywało wszczepów endoprotez stawowych w tym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świadczeniodawców z terenu województwa lubuski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styczeń-sierpień 2009r. W naszym województwie całym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00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 wszczepienia endoprotez staw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dług stanu na koniec czerwca 2009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przewidywany czas oczekiwani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w dniach) wyno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endoprotezoplastyka stawu biodrowego: średnia krajowa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03 dn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średnia województwa lubuskiego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686 dn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przypadki stabil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endoprotezoplastyka stawu kolanowego: średnia krajowa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18 dn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średnia województwa lubuskiego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640 dn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przypadki stabil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Zajmujemy 12 miejsce w kraj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biegi w zakresie soczewki (zaćma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9 roku 206 świadczeniodawców z terenu całego kraju, dokonywało zabiegów w zakresie soczewki (zaćma) w tym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świadczeniodawców z terenu województwa lubuski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styczeń-sierpień 2009r. W naszym województwie całym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 35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dług stanu na koniec czerwca 2009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przewidywany czas oczekiwani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w dniach) na zabieg wynosi: średnia krajowa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23 dn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średnia dla województwa lubuskiego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59 dn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przypadki stabilne).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Zajmujemy 3 miejsce w kraj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ziękuję za uwag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4" descr="nfz_logo_A_kolor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ele prowadzenia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 głów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337"/>
              </a:spcBef>
              <a:spcAft>
                <a:spcPts val="90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ewnienie równego traktowania wszystkich pacjentów poprzez równy, niedyskryminujący i przejrzysty dostęp do świadczeń opieki zdrowotne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e szczegół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nitorowanie okresu oczekiwania na udzielenie świadczenia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prawa dostępności do świadcze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sta, rzetelna i dokładna informacja dla pacjent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012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yskanie informacji dla określania zapotrzebowania na świadczenia zdrowot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wadzenie listy jest obowiązkiem ustawowy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Times New Roman"/>
              </a:rPr>
              <a:t>Podstawy prawn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Ustawa o świadczeniach opieki zdrowotnej finansowanych ze środków publicznych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6 września 2005 r. w sprawie kryteriów medycznych, jakimi powinni kierować się świadczeniodawcy, umieszczając świadczeniobiorców na listach oczekujących na udzielenie świadczenia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7 czerwca 2006 r. w sprawie zakresu niezbędnych informacji gromadzonych przez świadczeniodawców, szczegółowego sposobu rejestrowania tych informacji oraz ich przekazywania podmiotom zobowiązanym do finansowania świadczeń ze środków publicznych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7 grudnia 2007 r. w sprawie sposobu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i kryteriów ustalania dopuszczalnego czasu oczekiwania na wybrane świadczenia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6 maja 2008 r. w sprawie ogólnych warunków umów o udzielanie świadczeń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m Ministra Zdrowia z dnia 20 czerwca 2008 r. w sprawie zakresu niezbędnych informacji gromadzonych przez świadczeniodawców, szczegółowego sposobu rejestrowania tych informacji oraz ich przekazywania podmiotom zobowiązanym do finansowania świadczeń ze środków publiczny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Zarządzenie Nr 93/2008/DSOZ Prezesa Narodowego Funduszu Zdrowia z dnia 22 października 2008 r. w sprawie określenia warunków zawierania i realizacji umów w rodzaju: leczenie szpitalne ­– załącznik nr 12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tóre świadczenia? </a:t>
            </a:r>
            <a:r>
              <a:rPr b="0" lang="pl-PL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sty oczekujących prowadzone są między innymi w ram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mbulatoryjnej opieki specjalistycz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zpital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psychiatrycznej i leczenia uzależnie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habilitacji lecznicz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długotermin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tomatologicz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romadzone dane o liczbie oczekujących i średnim czasie oczekiwania na świadczenia są przekazywane do NF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sady zapisywania na listę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Świadczenia zdrowotne powinny być udzielane według kolejności zgłosze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cjent, któremu nie można udzielić świadczeń w chwili przyjęcia powinien zostać wpisany na listę oczekujących w jednej z dwóch kategorii medycznych, od której zależy termin realizacji 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p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wymaga pilnego udzielenia świadczenia ze względu na dynamikę procesu chorobow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możliwość szybkiego pogorszenia stanu zdrowia lub znaczącego zmniejszenia szans na powrót do zdrow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stab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nie znajduje się w stanie nagłym i nie został zakwalifikowany jako przypadek pil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nagłego pogorszenia stanu zdrowia pacjent ma prawo do zmiany terminu le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wadzenie wpisów na listy oczekujących powinno odbywać się na bieżąco – pacjent powinien zostać zapisany na listę oczekujących w dniu zgłoszenia d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Zmiany w sprawozdawczości z list oczekujących od stycznia 2010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godnie z § 12 rozporządzeniem Ministra Zdrowia z dnia 20 czerwca 2008 r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sprawie zakresu niezbędnych informacji gromadzonych przez świadczeniodawców, szczegółowego sposobu rejestrowania tych informacj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az ich przekazywania podmiotom zobowiązanym do finansowania świadczeń ze środków publicznych (Dz. U. Nr 123, poz. 801)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ylko do 31.12.2009 r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przekazywane są  do LOW NFZ informacje o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średnim przewidywanym czasie oczekiwania do komórek organizacyjny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liczbie oczekujących i średnich czasach oczekiwania (przewidywanym i rzeczywistym) na wybrane procedury medyczne oraz leczenia w ramach terapeutycznych programów zdrowotn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edług nowych, uproszczonych zasad świadczeniodawca sprawozdawać będzie tylko informację o liczbie oczekujących oraz średnim rzeczywistym czasie oczekiwania w poszczególnych komórkach organizacyjny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a list oczekujących na leczenie zaćm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IV kwartał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owy  brak przekazywania komunikatu (ok. 25% świadczeniodawców)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ilku świadczeniodawców w ogóle nie prowadziło list i nie przekazywało do Funduszu informacji o kolejka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ełne dane (ok. 3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kazywane informacje sprzeczne z rzeczywistymi danymi znajdującymi się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dokumentacji (ok. 4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aktualizacji li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as oczekiwania znacząco krótszy, niż wynikałoby to z informacji przekazanej do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spójne dane – czas oczekiwania w kategorii pilny dłuższy niż stabil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rzestrzeganie kolejności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konywanie zabiegu, pomimo braku wpisu na liśc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sadne przekwalifikowanie pacjenta z kategorii „stabilny” do kategorii „pilny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Listy spersonalizowan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ją zbieranie danych, które pozwalają jednoznaczną identyfikację pacjenta (poprzez numer PESEL) oczekującego na wybrane procedury med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FZ zbiera dane o oczekujących na wybrane, drogie specjalistyczne zabiegi, na które czeka się najdłuż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endoprotez staw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 2009 roku zbierane są dane spersonalizowane d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gioplasty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wa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kazywane do Funduszu dane w pełni oddają rzeczywistoś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walają na kompleksową analizę procedur wykony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 konkretneg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737856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sady prowadzenia list oczekujących spersonalizowanych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685800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a opieki zdrowotnej są udzielane według kolejności zgłoszenia, z uwzględnieniem stanu zdrowia pacjen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odawca wpisuje świadczeniobiorcę na listę oczekujących po stwierdzeniu, że posiada wymagane skierowanie na świadczenie danego rodzaju; skierowania z brakami, pozbawione istotnych danych, nie mogą być przyczyną nie wpisania na listę oczekujących – należy wystąpić do pacjenta o uzupełnienie danych lub uzyskać od lekarza kierująceg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mieszczenie pacjenta na liście oczekujących powinno nastąpić w dniu zgłoszenia się do świadczeniodawcy, należy pisemnie poinformować pacjenta o terminie udzielenia świadczenia (może to być adnotacja na skierowaniu potwierdzona pieczęcią świadczeniodawcy i podpisem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0:52:47Z</dcterms:created>
  <dc:creator>NFZ</dc:creator>
  <dc:description/>
  <cp:keywords/>
  <dc:language>en-US</dc:language>
  <cp:lastModifiedBy>prezentacja</cp:lastModifiedBy>
  <dcterms:modified xsi:type="dcterms:W3CDTF">2009-09-15T11:01:06Z</dcterms:modified>
  <cp:revision>75</cp:revision>
  <dc:subject/>
  <dc:title>Listy oczekujących na świadczenia opieki zdrowotnej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5</vt:lpwstr>
  </property>
</Properties>
</file>